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B050-94E2-415B-A3F7-130DC7CF1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9E5E-4999-418A-A4BA-0EBA98AB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1B1B-037C-4ED8-BBF5-234E0D14C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4282-55E3-4617-9EBC-1BC79C26C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3B7F-2EFA-4F12-8A9E-ACA760B36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648C-C12F-4930-B7E4-B4F5F33E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8586-4C88-4A44-94FE-743C487F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5D33-8615-45A8-AE36-CE0806BB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9838-C5C8-44F3-8D62-E22E11A5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CE91-8E96-4DEB-B075-B710BB8F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9F79-D7B9-4FBC-92BE-BF153092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319B-BC19-41EB-9770-B923B2A2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D2F0-391B-4B15-B90F-12A26AA6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F5F4-A5F4-4429-9EF3-928333BC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1009-E1FE-4C1A-8F8D-1075E08F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3356-3BF1-40E8-A318-F91273AAA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303B-4386-403B-89EA-43A397F86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8EBE-E384-4961-8BB6-ECB24632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CD50-5CFC-467F-A896-E2E18A07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64FC-534A-491D-B168-38964B3D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28CE-DF68-4059-8B58-F20AE90E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4756-DCE4-4D93-81A4-5CD7AAF0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80DD-E16B-479B-908F-A130F044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4324-7D43-423B-B281-3E6955F0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C149-D5A7-4517-8A0A-BEC52487628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F8A1-0EBF-43DC-AE3F-A70BDDF097E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66"/>
                </a:solidFill>
                <a:latin typeface="Arial"/>
              </a:rPr>
              <a:t>Unit 5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286000" y="2438280"/>
            <a:ext cx="47242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Silver Screen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    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one with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     the Win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ffectional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Gone%20with%20the%20wind" descr=""/>
          <p:cNvPicPr/>
          <p:nvPr/>
        </p:nvPicPr>
        <p:blipFill>
          <a:blip r:embed="rId1"/>
          <a:stretch/>
        </p:blipFill>
        <p:spPr>
          <a:xfrm>
            <a:off x="0" y="0"/>
            <a:ext cx="444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Harry%20Potter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Homework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Write a curriculum vitae (</a:t>
            </a: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履历表）</a:t>
            </a: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of  your favorite actor/actress/director/producer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GulimChe"/>
                <a:ea typeface="GulimChe"/>
              </a:rPr>
              <a:t>Get as much information as much as possible through the Intern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BS00580_" descr=""/>
          <p:cNvPicPr/>
          <p:nvPr/>
        </p:nvPicPr>
        <p:blipFill>
          <a:blip r:embed="rId1"/>
          <a:stretch/>
        </p:blipFill>
        <p:spPr>
          <a:xfrm>
            <a:off x="5029200" y="4267080"/>
            <a:ext cx="2819520" cy="25225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276720" y="48006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228600" y="1676520"/>
            <a:ext cx="8915040" cy="4571640"/>
            <a:chOff x="228600" y="1676520"/>
            <a:chExt cx="8915040" cy="4571640"/>
          </a:xfrm>
        </p:grpSpPr>
        <p:grpSp>
          <p:nvGrpSpPr>
            <p:cNvPr id="122" name=""/>
            <p:cNvGrpSpPr/>
            <p:nvPr/>
          </p:nvGrpSpPr>
          <p:grpSpPr>
            <a:xfrm>
              <a:off x="235080" y="1681560"/>
              <a:ext cx="8900640" cy="4560840"/>
              <a:chOff x="235080" y="1681560"/>
              <a:chExt cx="8900640" cy="456084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235080" y="1681560"/>
                <a:ext cx="1922400" cy="844200"/>
                <a:chOff x="235080" y="1681560"/>
                <a:chExt cx="1922400" cy="84420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334800" y="1681560"/>
                  <a:ext cx="172296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First name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35080" y="1681560"/>
                  <a:ext cx="192240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2157840" y="1681560"/>
                <a:ext cx="1649160" cy="844200"/>
                <a:chOff x="2157840" y="1681560"/>
                <a:chExt cx="1649160" cy="844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2257560" y="1681560"/>
                  <a:ext cx="144972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157840" y="1681560"/>
                  <a:ext cx="164916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3807720" y="1681560"/>
                <a:ext cx="1231920" cy="844200"/>
                <a:chOff x="3807720" y="1681560"/>
                <a:chExt cx="1231920" cy="844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3906720" y="1681560"/>
                  <a:ext cx="103284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Sur-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name 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807720" y="1681560"/>
                  <a:ext cx="123192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5040000" y="1681560"/>
                <a:ext cx="1635120" cy="844200"/>
                <a:chOff x="5040000" y="1681560"/>
                <a:chExt cx="1635120" cy="8442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5139000" y="1681560"/>
                  <a:ext cx="143604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040000" y="1681560"/>
                  <a:ext cx="163512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6675840" y="1681560"/>
                <a:ext cx="1301400" cy="844200"/>
                <a:chOff x="6675840" y="1681560"/>
                <a:chExt cx="1301400" cy="8442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6775560" y="1681560"/>
                  <a:ext cx="110232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Gender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675840" y="1681560"/>
                  <a:ext cx="130140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7977600" y="1681560"/>
                <a:ext cx="1158120" cy="844200"/>
                <a:chOff x="7977600" y="1681560"/>
                <a:chExt cx="1158120" cy="84420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8077320" y="1681560"/>
                  <a:ext cx="95904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977600" y="1681560"/>
                  <a:ext cx="115812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235080" y="2526120"/>
                <a:ext cx="1922400" cy="843840"/>
                <a:chOff x="235080" y="2526120"/>
                <a:chExt cx="1922400" cy="843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334800" y="2526120"/>
                  <a:ext cx="1722960" cy="84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Birthday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35080" y="2526120"/>
                  <a:ext cx="1922400" cy="84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2157840" y="2526120"/>
                <a:ext cx="1649160" cy="843840"/>
                <a:chOff x="2157840" y="2526120"/>
                <a:chExt cx="1649160" cy="84384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2257560" y="2526120"/>
                  <a:ext cx="1449720" cy="84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157840" y="2526120"/>
                  <a:ext cx="1649160" cy="84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3807720" y="2526120"/>
                <a:ext cx="1231920" cy="843840"/>
                <a:chOff x="3807720" y="2526120"/>
                <a:chExt cx="1231920" cy="8438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3906720" y="2526120"/>
                  <a:ext cx="1032840" cy="84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Birth-place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807720" y="2526120"/>
                  <a:ext cx="1231920" cy="84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5040000" y="2526120"/>
                <a:ext cx="4095360" cy="843840"/>
                <a:chOff x="5040000" y="2526120"/>
                <a:chExt cx="4095360" cy="84384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5139000" y="2526120"/>
                  <a:ext cx="3896640" cy="84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040000" y="2526120"/>
                  <a:ext cx="4095360" cy="84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235080" y="3370680"/>
                <a:ext cx="1922400" cy="675360"/>
                <a:chOff x="235080" y="3370680"/>
                <a:chExt cx="1922400" cy="67536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4800" y="3370680"/>
                  <a:ext cx="172296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Schooling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35080" y="3370680"/>
                  <a:ext cx="1922400" cy="67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2157840" y="3370680"/>
                <a:ext cx="6977880" cy="675360"/>
                <a:chOff x="2157840" y="3370680"/>
                <a:chExt cx="6977880" cy="67536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2257560" y="3370680"/>
                  <a:ext cx="677880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157840" y="3370680"/>
                  <a:ext cx="6977880" cy="67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235080" y="4046760"/>
                <a:ext cx="1922400" cy="675000"/>
                <a:chOff x="235080" y="4046760"/>
                <a:chExt cx="1922400" cy="6750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34800" y="4046760"/>
                  <a:ext cx="17229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areer in film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35080" y="4046760"/>
                  <a:ext cx="1922400" cy="67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157840" y="4046760"/>
                <a:ext cx="6977880" cy="675000"/>
                <a:chOff x="2157840" y="4046760"/>
                <a:chExt cx="6977880" cy="6750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257560" y="4046760"/>
                  <a:ext cx="677880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157840" y="4046760"/>
                  <a:ext cx="6977880" cy="67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35080" y="4722480"/>
                <a:ext cx="1922400" cy="675000"/>
                <a:chOff x="235080" y="4722480"/>
                <a:chExt cx="1922400" cy="6750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334800" y="4722480"/>
                  <a:ext cx="17229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Films &amp; roles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35080" y="4722480"/>
                  <a:ext cx="1922400" cy="67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2157840" y="4722480"/>
                <a:ext cx="6977880" cy="675000"/>
                <a:chOff x="2157840" y="4722480"/>
                <a:chExt cx="6977880" cy="67500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2257560" y="4722480"/>
                  <a:ext cx="677880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157840" y="4722480"/>
                  <a:ext cx="6977880" cy="67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35080" y="5398200"/>
                <a:ext cx="1922400" cy="844200"/>
                <a:chOff x="235080" y="5398200"/>
                <a:chExt cx="1922400" cy="84420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334800" y="5398200"/>
                  <a:ext cx="172296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Achievement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(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宋体"/>
                    </a:rPr>
                    <a:t>成就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)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35080" y="5398200"/>
                  <a:ext cx="192240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2157840" y="5398200"/>
                <a:ext cx="6977880" cy="844200"/>
                <a:chOff x="2157840" y="5398200"/>
                <a:chExt cx="6977880" cy="8442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2257560" y="5398200"/>
                  <a:ext cx="677880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157840" y="5398200"/>
                  <a:ext cx="697788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7" name=""/>
            <p:cNvSpPr/>
            <p:nvPr/>
          </p:nvSpPr>
          <p:spPr>
            <a:xfrm>
              <a:off x="228600" y="1676520"/>
              <a:ext cx="8915040" cy="4571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 txBox="1"/>
          <p:nvPr/>
        </p:nvSpPr>
        <p:spPr>
          <a:xfrm>
            <a:off x="2666880" y="60948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curriculum vita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219320" y="2209680"/>
            <a:ext cx="63244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THANK YOU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anic2" descr=""/>
          <p:cNvPicPr/>
          <p:nvPr/>
        </p:nvPicPr>
        <p:blipFill>
          <a:blip r:embed="rId1"/>
          <a:stretch/>
        </p:blipFill>
        <p:spPr>
          <a:xfrm>
            <a:off x="0" y="0"/>
            <a:ext cx="35593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76360" y="6091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tor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tres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irector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lay a role of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win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scar Award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llywood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lm typ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ffectional film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爱情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etective film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侦探片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racula film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恐怖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thical film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伦理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usicals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音乐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artoon film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卡通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cience and fiction film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科幻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ction film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动作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artial film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战争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Horror film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惊险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181480" y="304560"/>
            <a:ext cx="327672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Titanic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7960" y="1828440"/>
            <a:ext cx="5257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fectional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TITANICB" descr=""/>
          <p:cNvPicPr/>
          <p:nvPr/>
        </p:nvPicPr>
        <p:blipFill>
          <a:blip r:embed="rId1"/>
          <a:stretch/>
        </p:blipFill>
        <p:spPr>
          <a:xfrm>
            <a:off x="0" y="0"/>
            <a:ext cx="419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      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Matrix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rror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ce and fiction  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matrix" descr=""/>
          <p:cNvPicPr/>
          <p:nvPr/>
        </p:nvPicPr>
        <p:blipFill>
          <a:blip r:embed="rId1"/>
          <a:stretch/>
        </p:blipFill>
        <p:spPr>
          <a:xfrm>
            <a:off x="0" y="0"/>
            <a:ext cx="447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    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nding Nem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toon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findingnemo_d" descr=""/>
          <p:cNvPicPr/>
          <p:nvPr/>
        </p:nvPicPr>
        <p:blipFill>
          <a:blip r:embed="rId1"/>
          <a:stretch/>
        </p:blipFill>
        <p:spPr>
          <a:xfrm>
            <a:off x="0" y="0"/>
            <a:ext cx="399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 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007 Die Another Da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rror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007_dieanotherday_b" descr=""/>
          <p:cNvPicPr/>
          <p:nvPr/>
        </p:nvPicPr>
        <p:blipFill>
          <a:blip r:embed="rId1"/>
          <a:stretch/>
        </p:blipFill>
        <p:spPr>
          <a:xfrm>
            <a:off x="0" y="0"/>
            <a:ext cx="320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  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Jurassic Par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ce and fiction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rror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Jurassic%20park" descr=""/>
          <p:cNvPicPr/>
          <p:nvPr/>
        </p:nvPicPr>
        <p:blipFill>
          <a:blip r:embed="rId1"/>
          <a:stretch/>
        </p:blipFill>
        <p:spPr>
          <a:xfrm>
            <a:off x="0" y="0"/>
            <a:ext cx="396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piderman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ce and fiction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spiderman2" descr=""/>
          <p:cNvPicPr/>
          <p:nvPr/>
        </p:nvPicPr>
        <p:blipFill>
          <a:blip r:embed="rId1"/>
          <a:stretch/>
        </p:blipFill>
        <p:spPr>
          <a:xfrm>
            <a:off x="0" y="0"/>
            <a:ext cx="365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13:04:31Z</dcterms:created>
  <dc:creator> </dc:creator>
  <dc:description/>
  <dc:language>en-US</dc:language>
  <cp:lastModifiedBy> </cp:lastModifiedBy>
  <dcterms:modified xsi:type="dcterms:W3CDTF">2003-10-15T01:11:02Z</dcterms:modified>
  <cp:revision>8</cp:revision>
  <dc:subject/>
  <dc:title>Unit 5</dc:title>
</cp:coreProperties>
</file>